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4A8A-561E-43AC-9FA9-CE923E295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CC24-52C8-434D-9C1C-9F3A0B65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C0BE-8AE5-4098-AC1B-A29E8F755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FC31-D943-4691-B4EC-F7F42AF78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0E3A-9A68-4AC2-ABAB-508AACBB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1103-02EB-48FC-B164-99525BAB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2E24-9809-4750-A003-59AC561C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B3F3-4F6D-49BF-B20A-1729ADC4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0D40-1A68-4A71-BFAA-0FB1C28B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7D74-E0CC-419C-AA95-53C243B9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FDCC-90D2-49E9-93CB-969EBF46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9441-6D57-4E43-8C02-3D4D43A9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E962-7E43-4E07-A86C-5790DDDDE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600"/>
            </a:b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Институт информатики инноваций и бизнес систем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Предмет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«Технологии Интернет»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Руководитель: Сачко Максим Анатольевич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старший преподаватель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9ED2-4B47-406B-BA1D-9E3D63CC1C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ары имя-значение разделяются амперсандом. Алфавитно-цифровые символы и некоторые знаки препинания, не имеющие специального значения (тире, подчеркивание) передаются как есть. Остальные символы кодируются в виде "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%NM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", где NM - двузначный шестнадцатеричный код симв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500" spc="-1" strike="noStrike">
                <a:solidFill>
                  <a:srgbClr val="3333ff"/>
                </a:solidFill>
                <a:latin typeface="Tahoma"/>
              </a:rPr>
              <a:t>.../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prog?birthday=11%2F05%2F73&amp;name=John+Smi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          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birthday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"11/05/73 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          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na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"John Smith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AE3D-D384-4F9E-8F99-17ECC18850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AUTH_TYPE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 -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Метод аутентифицирования, использованный для опознания пользователя. См. также REMOTE_USER и REMOTE_I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CONTENT_LENGTH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ина данных запроса в байтах, переданных CGI-скрипту через стандартный вв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CONTENT_TYPE MIME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Тип данных запр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DOCUMENT_ROO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Корневой каталог дерева документов веб-серв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GATEWAY_INTERFAC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Используемая версия CG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еременные окружения C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2838-17A1-441B-91B4-57698FBE91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ff"/>
                </a:solidFill>
                <a:latin typeface="Tahoma"/>
              </a:rPr>
              <a:t>HTTP_ACCEPT</a:t>
            </a:r>
            <a:r>
              <a:rPr b="0" lang="ru-RU" sz="2700" spc="-1" strike="noStrike">
                <a:solidFill>
                  <a:srgbClr val="3333ff"/>
                </a:solidFill>
                <a:latin typeface="Tahoma"/>
              </a:rPr>
              <a:t> - Список MIME-типов данных, которые клиент может принять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ff"/>
                </a:solidFill>
                <a:latin typeface="Tahoma"/>
              </a:rPr>
              <a:t>HTTP_FROM</a:t>
            </a:r>
            <a:r>
              <a:rPr b="0" lang="ru-RU" sz="2700" spc="-1" strike="noStrike">
                <a:solidFill>
                  <a:srgbClr val="3333ff"/>
                </a:solidFill>
                <a:latin typeface="Tahoma"/>
              </a:rPr>
              <a:t> - Адрес электронной почты пользователя, сделавшего запрос (многие броузеры не передают такие данные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ff"/>
                </a:solidFill>
                <a:latin typeface="Tahoma"/>
              </a:rPr>
              <a:t>HTTP_REFERER</a:t>
            </a:r>
            <a:r>
              <a:rPr b="0" lang="ru-RU" sz="2700" spc="-1" strike="noStrike">
                <a:solidFill>
                  <a:srgbClr val="3333ff"/>
                </a:solidFill>
                <a:latin typeface="Tahoma"/>
              </a:rPr>
              <a:t> - URL документа, в котором находилась ссылка, вызвавшая настоящий запрос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ff"/>
                </a:solidFill>
                <a:latin typeface="Tahoma"/>
              </a:rPr>
              <a:t>HTTP_USER_AGENT</a:t>
            </a:r>
            <a:r>
              <a:rPr b="0" lang="ru-RU" sz="2700" spc="-1" strike="noStrike">
                <a:solidFill>
                  <a:srgbClr val="3333ff"/>
                </a:solidFill>
                <a:latin typeface="Tahoma"/>
              </a:rPr>
              <a:t> - Броузер клиент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ff"/>
                </a:solidFill>
                <a:latin typeface="Tahoma"/>
              </a:rPr>
              <a:t>PATH_TRANSLATED</a:t>
            </a:r>
            <a:r>
              <a:rPr b="0" lang="ru-RU" sz="2700" spc="-1" strike="noStrike">
                <a:solidFill>
                  <a:srgbClr val="3333ff"/>
                </a:solidFill>
                <a:latin typeface="Tahoma"/>
              </a:rPr>
              <a:t> - PATH_INFO, преобразованное в полный путь в файловой системе сервер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еременные окружения C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35CB-27BE-460F-8F41-9DD7E6C22B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QUERY_STRING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Данные запроса, переданные в составе URL вслед за вопросительным знак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MOTE_ADDR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IP-адрес кли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MOTE_HOS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Имя DNS клиен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MOTE_USER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Аутентифицированное имя пользовате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QUEST_METHOD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Метод запроса (GET, POST, HEAD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CRIPT_NA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Виртуальный путь (например, /cgi-bin/program.pl) к исполняемому CGI-скрип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еременные окружения C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B6B1-EC49-4CE2-95D2-CA7EFC6456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ERVER_NA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DNS-имя сервера или, при невозможности определить имя, его IP-адре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ERVER_POR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Номер порта серв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ERVER_PROTOCO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Имя и версия протокола, через который был сделан запрос (например, HTTP/1.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ERVER_SOFTWAR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Тип и номер версии ПО веб-серв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еременные окружения C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35C2-2607-405C-A2F7-09D493E7C7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оскольку все HTTP-запросы независимы друг от друга и на уровне протокола HTTP отсутствует понятие сеанса связи, CGI-программа запускается заново для каждого вновь поступившего запроса, неважно имеет ли он связь с предыдущими или нет. Таким образом, существует проблема сохранения состояния логического сеанса работы пользователя между его последовательными запросами к CGI-программе. Для этого используются: cookies, сохранение состояния в базу данных, сохранение в файл, скрытые поля.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Cook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9D94-3F8F-4AB9-88A6-538181BF4B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cookies - сохранение на компьютере клиен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крытые поля - сохранение внутри формы, посылаемой клиент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охранение в файле какого-либо формата на сервер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охранение в параллельно работающей базе да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Методы сохранения состоя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11A9-6BFB-4076-BA99-DA865A7C5E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и программировании CGI-скриптов всегда следует помнить, что при каждом очередном запросе скрипт начинает свою работу сначала, не имея никакой предыстории взаимодействия пользователя с этим или другими скрипт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рограммирование C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B725-A886-498D-86D3-83DC7D573F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my $x;         # $x создается, равно un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$x;              # лож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defined($x); # лож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$x=0;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$x;              # лож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defined($x); # исти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$x=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$x;              # исти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defined($x); # исти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$x=undef;    # опять undef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9B59-460A-4FB1-A315-5A0A828A9D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писком (list) называется упорядоченная последовательность скалярных значений; порядковые номера (индексы) начинаются с нуля. Отдельно стоящие списки заключаются в скобк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          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($x, "abc", 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бращение к элементу списка осуществляется путем указания индекса этого элемента в квадратных скобках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$y=($x, "abc", 15)[1];      # $y="abc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писки и масси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6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50920" y="2421000"/>
            <a:ext cx="69134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CG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веб-программ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2175-A1BF-4F66-81E7-727A6D301A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if (...) {...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условие ? выражение_да : выражение_нет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while(...) {...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do {...} while (..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for (...;...;...;) {...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if ($a&lt;$b) { $a=$b;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while ($a&lt;$b) { some_function($a);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$a=$b if ($a&lt;$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Операто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A0C5-1FE8-4CCD-B12B-BCF743E8D3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$x="abc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@array=('c','d','e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%hash=( a =&gt; "A", b=&gt; "B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print "this is \$x: \"$x\"; \nthis is element 2 of \@array: \"$array[2]\";\n"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"and \$hash{a} is \"$hash{a}\"\n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this is $x: "abc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this is element 2 of @array: "e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and $hash{a} is "A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47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кие действия предпринимает сервер, если для обработки поступившего запроса требуется запуск CGI-програм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Почему CGI-программа должна выдавать заголовок “Content-Type: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Что позволяет делать модуль mod_per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 чем заключается основная особенность CGI-программи­ров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 чем состоит проблема сохранения состояния в CGI-программировании и какие существуют способы ее решения? Укажите их достоинства и недоста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Почему язык Perl считается наиболее удобным для написания CGI-прилож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Вопросы для самопрове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UNIX для системных администраторов: Энциклопедия пользователя/ Пер.с англ. – Киев: ДиаСофт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Д.Р.Левин, К.Бароди. Секреты Интернет. – К.: Диалектика, ICE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S.Spainbour, V.Quercia. Webmaster in a Nutshell. – O’Reily &amp; Associates, Inc., 200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520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1) Интерфейс CGI, его задачи и фун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2) Исполнения CGI-скрип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3) Структура URL и кодирование данных за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4) Переменные окружения CG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5) Программирование CGI-скрип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6) Введение в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7F99-60ED-487B-BF76-CDF7DE68D0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Интерфейс CGI представляет собой спецификацию взаимодействия веб-сервера и внешней программы, которую веб-сервер запускает для обработки запроса. CGI определяет каким образом данные, предоставленные клиентом в запросе, передаются программе, как программа возвращает сгенерированный HTML-контент серверу, и какие переменные окружения устанавливаются сервером при запуске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Основная концеп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C97C-00D4-4853-966E-135231750C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Клиент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может запросить у веб-сервера как документ-файл с диска, так и документ, динамически формируемый некоторой внешней программой (как правило - в зависимости от данных, предоставленных пользователем при заполнении форм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Интерфейс CGI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представляет собой спецификацию взаимодействия веб-сервера и внешней программы, которую веб-сервер запускает для обработки запроса. (Внешняя программа, вне зависимости от своей природы, часто называется CGI-скриптом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BD25-810F-4F48-9998-A68972BE47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анные из заполненной клиентом HTML-формы могут передаваться на сервер двумя методами: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GE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POS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это определяется параметром method соответствующего тэга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&lt;form method=... action=...&gt;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 первом случа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GET)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данные присоединяются после вопросительного знака в конец URL, указанной в параметр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action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во втором случае - передаются в теле запроса - в секции, предназначенной для данных (следует после всех заголовков и пустой строки).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E029-5617-474B-B478-C425D2C9FC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Content-Type: text/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&lt;HTML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&lt;BODY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&lt;H1&gt;Hello, world&lt;/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&lt;/BODY&gt;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&lt;HTML&gt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Например, вывод CGI-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150D-AE7B-476A-AD8F-4CD43BE6E5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ScriptAlias /виртуальный/путь/ /путь/к/каталогу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ScriptAlias /cgi-bin/ /usr/local/www/cgi-bin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Это означает, что для обработки запроса URL вида http://your.server.com/cgi-bin/dir/script будет взят не файл script из каталога DocumentRoot/cgi-bin/dir/, а запущена программа /usr/local/www/cgi-bin/dir/scri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Конфигурирование сервера Ap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C650-1011-4296-8DB2-DE0BA5C1D6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я работы CGI-программ важное значение имеют части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UR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называемые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PATH_INFO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QUERY_STRING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Рассмотрим запрос с URL вида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: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http://my.server.com/cgi-bin/dir/prog/a/b?A=1&amp;B=qwer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PATH_INFO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- </a:t>
            </a:r>
            <a:r>
              <a:rPr b="0" i="1" lang="en-US" sz="2800" spc="-1" strike="noStrike">
                <a:solidFill>
                  <a:srgbClr val="3333ff"/>
                </a:solidFill>
                <a:latin typeface="Tahoma"/>
              </a:rPr>
              <a:t>/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a/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QUERY_STRING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-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A=1&amp;B=qw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труктура UR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31:57Z</dcterms:modified>
  <cp:revision>192</cp:revision>
  <dc:subject/>
  <dc:title>Lecture Template </dc:title>
</cp:coreProperties>
</file>